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AC0-F436-4E0A-A027-7E6A9A13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41B-83D6-464C-9FEB-537DF8C8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299-9A93-44BD-B5BF-83216A1E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4B9-5DE1-491C-BCDA-FF6E94FC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3098-8DDA-4721-AC2D-F64000F7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3A86-B4AB-4405-B62E-FA01AF9D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9692-3D6A-42DD-A1C1-8499CA37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F9E3-F996-4C8F-A979-43D6C1DC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AE1B-56C2-4302-A90D-DDFB6806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ACB5-BD5A-45C5-98FB-7290CF93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915C-0AD6-4C2C-BD0B-EABAC88E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232-CAF8-4768-8388-07009BC8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0C22-29A8-4FF9-AE53-B28D9CFC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3343-D433-4E1E-ADB5-DDE93456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AE57-9F6A-4531-9DA0-95F03363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7897-FB2E-4C74-A8A6-F63E766C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A56A-A296-49FF-A40C-0A8F4051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A2A-40E8-4738-BC4D-867F16EB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CD6-14FA-4002-B7B3-85EF3D29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A60-5F9C-4116-86D4-98AF4D42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125-7ED9-4003-9439-573C0D6E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C19-9607-4591-BD0E-64FE1F18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68E-1737-4149-8B7F-10246D00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6F1-D9D0-48BA-8523-0ABD5B8D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5927-41FE-4FD0-9D91-67C7020BE2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1F03-0C55-4B70-AC3F-0EC8AD600D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tT_8sFJx1w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olar_energy" TargetMode="External"/><Relationship Id="rId2" Type="http://schemas.openxmlformats.org/officeDocument/2006/relationships/hyperlink" Target="http://en.wikipedia.org/wiki/Solar_energy" TargetMode="External"/><Relationship Id="rId3" Type="http://schemas.openxmlformats.org/officeDocument/2006/relationships/hyperlink" Target="http://www.eia.doe.gov/kids/energyfacts/sources/renewable/solar.html" TargetMode="External"/><Relationship Id="rId4" Type="http://schemas.openxmlformats.org/officeDocument/2006/relationships/hyperlink" Target="http://www.engineeringk12.org/students/What_Is_Engineering/Engineering_Alphabet/Architectural_Engineering/default.php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0/Breakdown_of_the_incoming_solar_energy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lternate of Source of Energ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hwish Noma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yal Tari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aiya Has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n Sa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26- natural gas was discovered and identified in Ame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- the first country to market the use of natural 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ound 1785- natural gas produced from c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59- Colonel Edwin Drake dug the first well hitting oil and natural gas at 69 feet below the surface of the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th century- natural gas was used as a source of 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is natural gas fou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57760" cy="2530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3124080"/>
            <a:ext cx="3886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nd underneath the surface of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t will rise towards the surface of through loose, shale type rock and other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Much Natural Gas is the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’s Natural G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5181840" cy="3843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657600" y="6248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cember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Hydroelectricity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What is Hydroelectric power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Use of flowing water to create electricity is called hydroelectric e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mes from the natural flow of wa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enewable energy source dependent upon the hydrologic cycle of wa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does it work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energy is produced by the fall of water turning the blades of a turb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Example: Da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Video Cl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image_preview" descr=""/>
          <p:cNvPicPr/>
          <p:nvPr/>
        </p:nvPicPr>
        <p:blipFill>
          <a:blip r:embed="rId2"/>
          <a:stretch/>
        </p:blipFill>
        <p:spPr>
          <a:xfrm>
            <a:off x="4419720" y="3200400"/>
            <a:ext cx="464796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ydroelectric Power in Canad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hydro_pie_chart" descr="Hydro - pie chart of hydroelectricity in Canada / diagramme à secteurs d’énergie hydroélectrique au Canada "/>
          <p:cNvPicPr/>
          <p:nvPr/>
        </p:nvPicPr>
        <p:blipFill>
          <a:blip r:embed="rId1"/>
          <a:stretch/>
        </p:blipFill>
        <p:spPr>
          <a:xfrm>
            <a:off x="457200" y="1523880"/>
            <a:ext cx="4476600" cy="3343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105520" y="1219320"/>
            <a:ext cx="380988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mes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newable source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vides inexpens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ectric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duces no pollu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es not destroy water during the production of electric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Biofuel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fuels are fuels derived fro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Living Organis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Organic or food waste prod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consist of more than 80% of reusable materia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a source of solar energy (photosynthesis proces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s of Biofu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itives: Modern Diesel Engines = less noise, less pollution, more fuel efficiency and greater acceleration in vehic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te vegetable oils = free source of bio-waste = cheaper fuel and better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Solar Energy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s of Biofu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atives: The Food and Agriculture Organization of UN shows that the quick increase in the liquid biofuels might be threatening to the lives of rural women (farmers)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Biofuels Women"/>
          <p:cNvPicPr/>
          <p:nvPr/>
        </p:nvPicPr>
        <p:blipFill>
          <a:blip r:embed="rId1"/>
          <a:stretch/>
        </p:blipFill>
        <p:spPr>
          <a:xfrm>
            <a:off x="6095880" y="4191120"/>
            <a:ext cx="2000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Biofu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odies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the first alternative source of energy. Can be used in existing vehicles (Bio ethano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o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alternative for natural gas. Produced from either plant of anim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oma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wood residue or excess straw being burnt to provide h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Biodiesel research"/>
          <p:cNvPicPr/>
          <p:nvPr/>
        </p:nvPicPr>
        <p:blipFill>
          <a:blip r:embed="rId1"/>
          <a:stretch/>
        </p:blipFill>
        <p:spPr>
          <a:xfrm>
            <a:off x="7391520" y="228600"/>
            <a:ext cx="1217520" cy="152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5800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fuel Vide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REER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olar Energ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1360" indent="-479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gricultural Advis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1360" indent="-479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rchitectural Engine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Natural G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troleum Engine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otary Drill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Biofuel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iofuel Chem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iofuels Bioprocess Engine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Hydroelectricit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ydroelectric Engineering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ydroelectric project Electrici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1905120"/>
            <a:ext cx="365760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ur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gl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io-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hys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bliograph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en.wikipedia.org/wiki/Solar_energ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800"/>
            </a:b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eia.doe.gov/kids/energyfacts/sources/renewable/solar.htm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800"/>
            </a:b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http://www.engineeringk12.org/students/What_Is_Engineering/Engineering_Alphabet/Architectural_Engineering/default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pge.com/microsite/safety_esw_ngsw/ngsw/more/careers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naturalgas.org/index.as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careercruising.com/CASchool/SchoolProfile.aspx?LoginID=2da6ada9-2403-4af8-9464-98237c000bb8-&amp;SchoolCode=ABC12&amp;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canren.gc.ca/tech_appl/index.asp?CaId=4 - 50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.wikipedia.org/wiki/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ydroelectri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y - 116k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darvill.clara.net/altenerg/hydro.htm - 24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alternative-energy-news.info/technology/biofuels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5345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nergy from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and radiant heat from the sun also called Solar Pow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solar resourc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ave Pow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droelectr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om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arth receives 174 petawatts (PW) of external solar radiation at the upper  atmosph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rox 30% reflects back to the space the rest is absorbed b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ud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cea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d Mas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800px-Breakdown_of_the_incoming_solar_energy.svg" descr="File:Breakdown of the incoming solar energy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295280"/>
            <a:ext cx="620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pplications of Solar Energ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Architecture and urban pl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ahoma"/>
              </a:rPr>
              <a:t>Solar energy influences the designs of the building. Solar designs uses computers to put together Solar lighting, heating and ventilation 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Agriculture and Horticultur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of solar energy in order to help grow more pla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lar Light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y lighting system collects and distributes sunlight to provide interior illumin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lar Ther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, high and medium temperature collecto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 =</a:t>
            </a: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 flat plates generally used to heat swimming p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Medium = also usually flat plates but are used for creating hot water for residential and commercial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High = concentrate sunlight using mirrors or lenses and are generally used for electric power p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for water heating, space heating, space cool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ooftop picture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4343400" cy="2396880"/>
          </a:xfrm>
          <a:prstGeom prst="rect">
            <a:avLst/>
          </a:prstGeom>
          <a:ln w="0">
            <a:noFill/>
          </a:ln>
        </p:spPr>
      </p:pic>
      <p:pic>
        <p:nvPicPr>
          <p:cNvPr id="97" name="Erau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4305240" cy="243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562720" y="1219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xed flat plate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4572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ngle axis tracking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1532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Natural ga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 is Natural g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rless, shapeless, and odorless type of 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ammable mixture of hydrocarbon gases which is mainly of meth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s of oxygen, nitrogen, ethane, propane, butane and penta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for heating homes, cooking and running appli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d by the volume it takes up at normal temperatures and pressu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3:27:41Z</dcterms:created>
  <dc:creator>*</dc:creator>
  <dc:description/>
  <dc:language>en-US</dc:language>
  <cp:lastModifiedBy>Admin</cp:lastModifiedBy>
  <dcterms:modified xsi:type="dcterms:W3CDTF">2008-12-25T07:44:45Z</dcterms:modified>
  <cp:revision>17</cp:revision>
  <dc:subject/>
  <dc:title>Slide 1</dc:title>
</cp:coreProperties>
</file>